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8198-D9C8-45BE-84B8-88D0C6CC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A38F-4459-4603-811E-5A4E5D42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D71F-D28E-4963-AB6C-F8EA025B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CFDA-45B3-48DE-8109-9635DB64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B8ED-05A0-498A-BA51-2E0C6A41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91C5-E808-4357-87E2-7240210F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347E-66FA-48AA-8373-200A96E7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12F7-1055-43F4-A47F-61154193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6003-E498-42E7-AF94-8050B408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09E3-33E4-43B9-9701-855FD92A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2836-A341-4C97-B8E5-0395201E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50D7-55F9-474E-A506-30D1CBC5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AF77-5C15-469E-BCB9-CBE2148D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DB5F-4479-4583-83E8-0C0225E7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BEE1-8F40-4A36-BC39-8704309C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A76D-DE51-4B43-BC60-EA17E590B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9043-A0E3-445D-B6F0-F3629C35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B30B-A760-488D-9D14-76C0CF81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78A7-1224-4807-BEDB-9B2D363A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BAC6-3691-4D92-888C-7AF77421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CDF7-239A-4245-BE24-25B672DF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90D3-37DB-46A1-A3F1-11D57230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A9C8-2CF7-4510-A158-09D5695D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43C4-F3E1-4084-A7D2-FCB3770C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4681-2437-43CF-9A2D-709292EFBE0C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C020-36A8-4451-99F8-A0128750729A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o/a/a0/Ploaie_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353880"/>
            <a:ext cx="7696080" cy="5970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7696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바탕"/>
              </a:rPr>
              <a:t>ECHIPA</a:t>
            </a:r>
            <a:r>
              <a:rPr b="1" lang="en-US" sz="4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666633"/>
                </a:solidFill>
                <a:latin typeface="바탕"/>
              </a:rPr>
              <a:t>CLAEI </a:t>
            </a:r>
            <a:r>
              <a:rPr b="1" lang="en-US" sz="4000" spc="-1" strike="noStrike">
                <a:solidFill>
                  <a:srgbClr val="666633"/>
                </a:solidFill>
                <a:latin typeface="comic"/>
              </a:rPr>
              <a:t>I-III C</a:t>
            </a:r>
            <a:r>
              <a:rPr b="1" lang="en-US" sz="4000" spc="-1" strike="noStrike">
                <a:solidFill>
                  <a:srgbClr val="666633"/>
                </a:solidFill>
                <a:latin typeface="바탕"/>
              </a:rPr>
              <a:t> VA INVITA IN </a:t>
            </a:r>
            <a:r>
              <a:rPr b="1" lang="en-US" sz="4000" spc="-1" strike="noStrike">
                <a:solidFill>
                  <a:srgbClr val="666633"/>
                </a:solidFill>
                <a:latin typeface="comic"/>
              </a:rPr>
              <a:t>NATURA</a:t>
            </a:r>
            <a:br>
              <a:rPr sz="4000"/>
            </a:br>
            <a:endParaRPr b="0" lang="en-US" sz="40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lackadder ITC"/>
              </a:rPr>
              <a:t>Fenomene ale naturi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00"/>
                </a:solidFill>
                <a:latin typeface="Arial"/>
              </a:rPr>
              <a:t>MEMBRII</a:t>
            </a: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808000"/>
                </a:solidFill>
                <a:latin typeface="Arial"/>
              </a:rPr>
              <a:t>ECHIPEI: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na  Cris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gy No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fi Brigi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ho Em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stas Sz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stas Norb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igeti Sandor    Indrumator: Halmagyi Izabel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371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3733920"/>
            <a:ext cx="1981440" cy="13716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Fenomene ale naturii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ger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1752480"/>
            <a:ext cx="3886200" cy="1981440"/>
          </a:xfrm>
          <a:prstGeom prst="wedgeEllipseCallout">
            <a:avLst>
              <a:gd name="adj1" fmla="val -60865"/>
              <a:gd name="adj2" fmla="val 4070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nomenul luminos care insoteste trasnetul se numes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ar fenomenul acustic poarta denumirea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562720" y="2971800"/>
            <a:ext cx="2981160" cy="1981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6019920" y="2057400"/>
            <a:ext cx="228600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957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unetu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3524400"/>
            <a:ext cx="2305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Fişier:Ploaie 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8400" y="2895480"/>
            <a:ext cx="5565600" cy="3962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2362680"/>
            <a:ext cx="312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aia este o parte importantă a circuitului apei în natură şi are loc după ce apa care s-a evaporat din râuri, lacuri, oceane, ş.a.m.d. se condensează ajungând picături de apă şi cade pe pământ, întorcându-se înapoi în pârâuri, râuri, lacur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1219320"/>
            <a:ext cx="2743200" cy="1218960"/>
          </a:xfrm>
          <a:prstGeom prst="cloudCallout">
            <a:avLst>
              <a:gd name="adj1" fmla="val -98379"/>
              <a:gd name="adj2" fmla="val 12226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666633"/>
                </a:solidFill>
                <a:latin typeface="Arial"/>
              </a:rPr>
              <a:t>Ploa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4114800"/>
            <a:ext cx="8076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urcubeul este  cel mai frumos fenomen din atmosferă. El este asociat cu liniştea şi lumina de după ploaia căzută din nori întunecaţi şi a impresionat omenirea din toate timpurile, fiind considerat un "semn ceresc" care aduce binele, pacea şi prosperitatea.</a:t>
            </a:r>
            <a:br>
              <a:rPr sz="1800"/>
            </a:b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  Curcubeul este un fenomen optic vizibil atunci când soarele bate din spatele nostru în perdeaua de nori sau de apă din faţă, lumina reflectându-se pe bolta senină.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05520" y="609480"/>
            <a:ext cx="2057400" cy="16002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rcube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876920" y="2133720"/>
            <a:ext cx="3809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insoarea</a:t>
            </a:r>
            <a:br>
              <a:rPr sz="3400"/>
            </a:br>
            <a:endParaRPr b="0" lang="en-US" sz="34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446360" y="5941800"/>
            <a:ext cx="470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el de sus cu cel de jos,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ac pe apă-un pod fru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gheaţa şi geru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3040" y="4419360"/>
            <a:ext cx="26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uf de stea pe-un fir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â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fulgul)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29080" y="1828800"/>
            <a:ext cx="3814920" cy="4114800"/>
            <a:chOff x="5329080" y="1828800"/>
            <a:chExt cx="3814920" cy="411480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5329080" y="1828800"/>
              <a:ext cx="38149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 txBox="1"/>
            <p:nvPr/>
          </p:nvSpPr>
          <p:spPr>
            <a:xfrm>
              <a:off x="5329080" y="1828800"/>
              <a:ext cx="381492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ffcc00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666633"/>
                </a:solidFill>
                <a:latin typeface="Arial"/>
              </a:rPr>
              <a:t>Evaluare 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Des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ezentarea portofoliul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Vă mulţumi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3:52:49Z</dcterms:created>
  <dc:creator>ws13</dc:creator>
  <dc:description/>
  <dc:language>en-US</dc:language>
  <cp:lastModifiedBy>user</cp:lastModifiedBy>
  <dcterms:modified xsi:type="dcterms:W3CDTF">2010-01-24T09:52:29Z</dcterms:modified>
  <cp:revision>5</cp:revision>
  <dc:subject/>
  <dc:title>ECHIPA CLASEI I-III C VA INVITA IN NATURA </dc:title>
</cp:coreProperties>
</file>